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3.png" ContentType="image/png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3.wmf" ContentType="image/x-wmf"/>
  <Override PartName="/ppt/media/image17.wmf" ContentType="image/x-wmf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0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20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6F9E-4C29-49A1-B93D-C21C4838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-39600"/>
            <a:ext cx="7086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40400"/>
            <a:ext cx="8610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0131-52C2-4A1D-8087-9F252B2B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-39600"/>
            <a:ext cx="7086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7080" y="91440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4040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7080" y="374040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EC75-C8E7-4CBF-AE02-4E55614B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-39600"/>
            <a:ext cx="7086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6240" y="91440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560" y="91440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4040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6240" y="374040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560" y="374040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D93F-A191-47A0-B976-E8B9A118E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-39600"/>
            <a:ext cx="7086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70CE-F503-4651-B1FC-64D8D321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-39600"/>
            <a:ext cx="7086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0BF5-EBFF-40C3-A2F4-172B80C6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-39600"/>
            <a:ext cx="7086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4201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7080" y="914400"/>
            <a:ext cx="4201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8A31-05EA-462A-A8ED-ACC25D38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-39600"/>
            <a:ext cx="7086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891F-FECB-4592-9C1D-AC025A95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825A-911D-4CC8-BF96-9CF85978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-39600"/>
            <a:ext cx="7086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914400"/>
            <a:ext cx="4201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4040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35D2-AD1C-4A97-8525-6BA92988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-39600"/>
            <a:ext cx="7086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4201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91440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7080" y="374040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D531-D617-44E0-AD11-E759DFBF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-39600"/>
            <a:ext cx="7086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91440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40400"/>
            <a:ext cx="8610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5EBB-678A-4076-A137-BFC9A9AF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4004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400440"/>
            <a:ext cx="2971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8212-899E-43EB-8DA8-F02A13CF7AA0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2120"/>
            <a:ext cx="8305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22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1142640"/>
            <a:ext cx="883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Beyond Brain Blobs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On using classifiers for semiautomated discovery of meaningful spatiotemporal patterns of activation in functional neuroimaging data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3" name=""/>
          <p:cNvSpPr/>
          <p:nvPr/>
        </p:nvSpPr>
        <p:spPr>
          <a:xfrm>
            <a:off x="351360" y="4718160"/>
            <a:ext cx="5898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Francisco Pereir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Computer Science Department an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Center for the Neural Basis of Cogni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brainSlice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458200" cy="638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548D-920C-4ADF-B2CE-EB7158EAB40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brainSlice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458200" cy="6381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rcRect l="42432" t="32293" r="18034" b="38544"/>
          <a:stretch/>
        </p:blipFill>
        <p:spPr>
          <a:xfrm>
            <a:off x="4876920" y="4191120"/>
            <a:ext cx="3581280" cy="213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8BAA-582B-42D0-8E18-DC2DB765E55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17254" t="18556" r="12060" b="23158"/>
          <a:stretch/>
        </p:blipFill>
        <p:spPr>
          <a:xfrm>
            <a:off x="4876920" y="3124080"/>
            <a:ext cx="3581280" cy="22147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ill Sans MT"/>
              </a:rPr>
              <a:t>Introduction to fMRI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91440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With anatomical information, O(10K) voxels/imag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Typical rate of acquisition is 1 image/sec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overall duration hundreds/thousands of imag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-209520" y="6388200"/>
            <a:ext cx="63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Gill Sans MT"/>
              </a:rPr>
              <a:t>Introduction to fMRI</a:t>
            </a: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 &gt; Classifiers on fMRI &gt; Data decomposition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04920" y="3124080"/>
            <a:ext cx="3886200" cy="3119400"/>
            <a:chOff x="304920" y="3124080"/>
            <a:chExt cx="3886200" cy="3119400"/>
          </a:xfrm>
        </p:grpSpPr>
        <p:pic>
          <p:nvPicPr>
            <p:cNvPr id="79" name="brainSlice" descr=""/>
            <p:cNvPicPr/>
            <p:nvPr/>
          </p:nvPicPr>
          <p:blipFill>
            <a:blip r:embed="rId2"/>
            <a:stretch/>
          </p:blipFill>
          <p:spPr>
            <a:xfrm>
              <a:off x="304920" y="3124080"/>
              <a:ext cx="3124080" cy="2357280"/>
            </a:xfrm>
            <a:prstGeom prst="rect">
              <a:avLst/>
            </a:prstGeom>
            <a:ln w="9360">
              <a:solidFill>
                <a:srgbClr val="333333"/>
              </a:solidFill>
              <a:miter/>
            </a:ln>
          </p:spPr>
        </p:pic>
        <p:pic>
          <p:nvPicPr>
            <p:cNvPr id="80" name="brainSlice" descr=""/>
            <p:cNvPicPr/>
            <p:nvPr/>
          </p:nvPicPr>
          <p:blipFill>
            <a:blip r:embed="rId3"/>
            <a:stretch/>
          </p:blipFill>
          <p:spPr>
            <a:xfrm>
              <a:off x="457200" y="3276360"/>
              <a:ext cx="3124080" cy="2357640"/>
            </a:xfrm>
            <a:prstGeom prst="rect">
              <a:avLst/>
            </a:prstGeom>
            <a:ln w="9360">
              <a:solidFill>
                <a:srgbClr val="333333"/>
              </a:solidFill>
              <a:miter/>
            </a:ln>
          </p:spPr>
        </p:pic>
        <p:pic>
          <p:nvPicPr>
            <p:cNvPr id="81" name="brainSlice" descr=""/>
            <p:cNvPicPr/>
            <p:nvPr/>
          </p:nvPicPr>
          <p:blipFill>
            <a:blip r:embed="rId4"/>
            <a:stretch/>
          </p:blipFill>
          <p:spPr>
            <a:xfrm>
              <a:off x="1066680" y="3886200"/>
              <a:ext cx="3124440" cy="2357280"/>
            </a:xfrm>
            <a:prstGeom prst="rect">
              <a:avLst/>
            </a:prstGeom>
            <a:ln w="9360">
              <a:solidFill>
                <a:srgbClr val="333333"/>
              </a:solidFill>
              <a:miter/>
            </a:ln>
          </p:spPr>
        </p:pic>
        <p:sp>
          <p:nvSpPr>
            <p:cNvPr id="82" name=""/>
            <p:cNvSpPr/>
            <p:nvPr/>
          </p:nvSpPr>
          <p:spPr>
            <a:xfrm>
              <a:off x="621720" y="565308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Gill Sans MT"/>
                </a:rPr>
                <a:t>…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DEFE-CF08-4C9B-B05A-54500049FB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ill Sans MT"/>
              </a:rPr>
              <a:t>Introduction to fMRI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289548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How are fMRI datasets analysed, typically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209520" y="6388200"/>
            <a:ext cx="63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Gill Sans MT"/>
              </a:rPr>
              <a:t>Introduction to fMRI</a:t>
            </a: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 &gt; Classifiers on fMRI &gt; Data decomposition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C5CB-DCD7-465B-B78F-427341DF50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ill Sans MT"/>
              </a:rPr>
              <a:t>Introduction to fMRI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990720"/>
            <a:ext cx="84582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The question to answer i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333333"/>
                </a:solidFill>
                <a:latin typeface="Gill Sans MT"/>
              </a:rPr>
              <a:t>which voxels are more active in task than in control images?”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often stated a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333333"/>
                </a:solidFill>
                <a:latin typeface="Gill Sans MT"/>
              </a:rPr>
              <a:t>which places light up?”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Experiments have a particular design, wher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the subject performs a task of interes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ill Sans MT"/>
              </a:rPr>
              <a:t>(e.g. seeing a flashing checkerboard turn on/off, reading words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interleaved with a control tas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ill Sans MT"/>
              </a:rPr>
              <a:t>(e.g. seeing a blank screen, reading nonsense words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209520" y="6388200"/>
            <a:ext cx="63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Gill Sans MT"/>
              </a:rPr>
              <a:t>Introduction to fMRI</a:t>
            </a: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 &gt; Classifiers on fMRI &gt; Data decomposition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D522-52D3-4F2A-BB34-AB594BBF27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Introduction to fMRI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610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Statistical Parametric Mapping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lvl="1" marL="720720" indent="-27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Voxelwise regression on an expected response to an on/off stimulus, yields a map of p-values.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20720" indent="-27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Description of the data in terms of clusters of voxels responding to a contrast of interest (e.g. on/off), a.k.a. “blobs”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-77400" y="2971800"/>
            <a:ext cx="8916480" cy="2895480"/>
            <a:chOff x="-77400" y="2971800"/>
            <a:chExt cx="8916480" cy="2895480"/>
          </a:xfrm>
        </p:grpSpPr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990720" y="3200400"/>
              <a:ext cx="3166920" cy="16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5029200" y="2971800"/>
              <a:ext cx="380988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25320" y="5334120"/>
              <a:ext cx="382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Gill Sans MT"/>
                </a:rPr>
                <a:t>[Rik Henson, Univ. Cambridge]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43400" y="4343400"/>
              <a:ext cx="6858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-77400" y="3657600"/>
              <a:ext cx="1113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Gill Sans MT"/>
                </a:rPr>
                <a:t>Signal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Gill Sans MT"/>
                </a:rPr>
                <a:t>Stimulu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05120" y="49528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Gill Sans MT"/>
                </a:rPr>
                <a:t>time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-209520" y="6388200"/>
            <a:ext cx="63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Gill Sans MT"/>
              </a:rPr>
              <a:t>Introduction to fMRI</a:t>
            </a: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 &gt; Classifiers on fMRI &gt; Data decomposition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2935-6268-4F36-BF82-0A3EC10530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Outline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ill Sans MT"/>
              </a:rPr>
              <a:t>Introduction to fMRI</a:t>
            </a:r>
            <a:endParaRPr b="0" lang="en-US" sz="36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Gill Sans MT"/>
              </a:rPr>
              <a:t>Training classifiers with neuroimaging data</a:t>
            </a:r>
            <a:endParaRPr b="0" lang="en-US" sz="36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Motivation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Research questions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Prior and proposed work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ill Sans MT"/>
              </a:rPr>
              <a:t>Data decompositions</a:t>
            </a:r>
            <a:endParaRPr b="0" lang="en-US" sz="36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ill Sans MT"/>
              </a:rPr>
              <a:t>Research Timeline</a:t>
            </a:r>
            <a:endParaRPr b="0" lang="en-US" sz="36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1" name=""/>
          <p:cNvSpPr/>
          <p:nvPr/>
        </p:nvSpPr>
        <p:spPr>
          <a:xfrm>
            <a:off x="-209520" y="6388200"/>
            <a:ext cx="63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Introduction to fMRI &gt; </a:t>
            </a:r>
            <a:r>
              <a:rPr b="0" lang="en-US" sz="1600" spc="-1" strike="noStrike">
                <a:solidFill>
                  <a:srgbClr val="00cc99"/>
                </a:solidFill>
                <a:latin typeface="Gill Sans MT"/>
              </a:rPr>
              <a:t>Classifiers on fMRI</a:t>
            </a: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 &gt; Data decomposition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A1CC-50ED-4366-BE77-9214702E2B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Motivation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ill Sans MT"/>
              </a:rPr>
              <a:t>Classifiers vs traditional analysis</a:t>
            </a:r>
            <a:endParaRPr b="0" lang="en-US" sz="36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Goals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Determine subject’s stimuli/thoughts from an image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Find if or how voxels are related to what is being predicted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Advantages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Decision is based on many voxels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Voxels can have complicated patterns of activation, related to multiple classes, instead of on/off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4" name=""/>
          <p:cNvSpPr/>
          <p:nvPr/>
        </p:nvSpPr>
        <p:spPr>
          <a:xfrm>
            <a:off x="-209520" y="6388200"/>
            <a:ext cx="63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Introduction to fMRI &gt; </a:t>
            </a:r>
            <a:r>
              <a:rPr b="0" lang="en-US" sz="1600" spc="-1" strike="noStrike">
                <a:solidFill>
                  <a:srgbClr val="00cc99"/>
                </a:solidFill>
                <a:latin typeface="Gill Sans MT"/>
              </a:rPr>
              <a:t>Classifiers on fMRI</a:t>
            </a: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 &gt; Data decomposition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5DFE-16AA-4B64-88E0-8D7ED15E6B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Motivation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Example: decoding semantic category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Task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Subject sees a succession of pictures of items belonging to a category, the average fMRI image during that block of time is kept.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This is done for several categories: faces, chairs, houses, etc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Goals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Can the stimulus seen be decoded from the image?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Judging whether different voxel subsets contain information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7" name=""/>
          <p:cNvSpPr/>
          <p:nvPr/>
        </p:nvSpPr>
        <p:spPr>
          <a:xfrm>
            <a:off x="-209520" y="6388200"/>
            <a:ext cx="63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Introduction to fMRI &gt; </a:t>
            </a:r>
            <a:r>
              <a:rPr b="0" lang="en-US" sz="1600" spc="-1" strike="noStrike">
                <a:solidFill>
                  <a:srgbClr val="00cc99"/>
                </a:solidFill>
                <a:latin typeface="Gill Sans MT"/>
              </a:rPr>
              <a:t>Classifiers on fMRI</a:t>
            </a: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 &gt; Data decomposition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A34F-920F-48BC-AB61-23A2DB9529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Motivation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4228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Activation present in most of ventral temporal cortex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35880" indent="-33588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Nearest-neighbour classifier with spatial correlation as distance measure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35880" indent="-33588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Information is in value of each voxel relative to the mean of the image, rather than in its absolute value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pic>
        <p:nvPicPr>
          <p:cNvPr id="110" name="haxby-nnSCALE" descr=""/>
          <p:cNvPicPr/>
          <p:nvPr/>
        </p:nvPicPr>
        <p:blipFill>
          <a:blip r:embed="rId1"/>
          <a:stretch/>
        </p:blipFill>
        <p:spPr>
          <a:xfrm>
            <a:off x="5334120" y="2514600"/>
            <a:ext cx="2844720" cy="407880"/>
          </a:xfrm>
          <a:prstGeom prst="rect">
            <a:avLst/>
          </a:prstGeom>
          <a:ln w="0">
            <a:noFill/>
          </a:ln>
        </p:spPr>
      </p:pic>
      <p:pic>
        <p:nvPicPr>
          <p:cNvPr id="111" name="haxby-sliceMean" descr=""/>
          <p:cNvPicPr/>
          <p:nvPr/>
        </p:nvPicPr>
        <p:blipFill>
          <a:blip r:embed="rId2"/>
          <a:stretch/>
        </p:blipFill>
        <p:spPr>
          <a:xfrm>
            <a:off x="5334120" y="914400"/>
            <a:ext cx="1108080" cy="1143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092200" y="2057400"/>
            <a:ext cx="36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ill Sans MT"/>
              </a:rPr>
              <a:t>Mean slice over all categori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334120" y="3048120"/>
            <a:ext cx="2571840" cy="2919600"/>
            <a:chOff x="5334120" y="3048120"/>
            <a:chExt cx="2571840" cy="2919600"/>
          </a:xfrm>
        </p:grpSpPr>
        <p:grpSp>
          <p:nvGrpSpPr>
            <p:cNvPr id="114" name=""/>
            <p:cNvGrpSpPr/>
            <p:nvPr/>
          </p:nvGrpSpPr>
          <p:grpSpPr>
            <a:xfrm>
              <a:off x="5334120" y="3048120"/>
              <a:ext cx="2514600" cy="2579040"/>
              <a:chOff x="5334120" y="3048120"/>
              <a:chExt cx="2514600" cy="2579040"/>
            </a:xfrm>
          </p:grpSpPr>
          <p:pic>
            <p:nvPicPr>
              <p:cNvPr id="115" name="haxby-sliceF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4120" y="3048120"/>
                <a:ext cx="1119240" cy="118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haxby-sliceH" descr=""/>
              <p:cNvPicPr/>
              <p:nvPr/>
            </p:nvPicPr>
            <p:blipFill>
              <a:blip r:embed="rId4"/>
              <a:stretch/>
            </p:blipFill>
            <p:spPr>
              <a:xfrm>
                <a:off x="6723360" y="3048120"/>
                <a:ext cx="1125360" cy="117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haxby-sliceC" descr=""/>
              <p:cNvPicPr/>
              <p:nvPr/>
            </p:nvPicPr>
            <p:blipFill>
              <a:blip r:embed="rId5"/>
              <a:stretch/>
            </p:blipFill>
            <p:spPr>
              <a:xfrm>
                <a:off x="5334120" y="4454280"/>
                <a:ext cx="1125360" cy="117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haxby-sliceS" descr=""/>
              <p:cNvPicPr/>
              <p:nvPr/>
            </p:nvPicPr>
            <p:blipFill>
              <a:blip r:embed="rId6"/>
              <a:stretch/>
            </p:blipFill>
            <p:spPr>
              <a:xfrm>
                <a:off x="6723360" y="4454280"/>
                <a:ext cx="1125360" cy="1172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" name=""/>
            <p:cNvGrpSpPr/>
            <p:nvPr/>
          </p:nvGrpSpPr>
          <p:grpSpPr>
            <a:xfrm>
              <a:off x="5525280" y="4161240"/>
              <a:ext cx="2380680" cy="1806480"/>
              <a:chOff x="5525280" y="4161240"/>
              <a:chExt cx="2380680" cy="1806480"/>
            </a:xfrm>
          </p:grpSpPr>
          <p:sp>
            <p:nvSpPr>
              <p:cNvPr id="120" name=""/>
              <p:cNvSpPr/>
              <p:nvPr/>
            </p:nvSpPr>
            <p:spPr>
              <a:xfrm>
                <a:off x="5569200" y="4161240"/>
                <a:ext cx="84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Gill Sans MT"/>
                  </a:rPr>
                  <a:t>Faces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838200" y="4161240"/>
                <a:ext cx="106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Gill Sans MT"/>
                  </a:rPr>
                  <a:t>Houses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525280" y="5568840"/>
                <a:ext cx="93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Gill Sans MT"/>
                  </a:rPr>
                  <a:t>Chairs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900120" y="5567400"/>
                <a:ext cx="897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Gill Sans MT"/>
                  </a:rPr>
                  <a:t>Shoes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5232960" y="5943600"/>
            <a:ext cx="21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ill Sans MT"/>
              </a:rPr>
              <a:t>[Haxby et al, 01]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-209520" y="6388200"/>
            <a:ext cx="63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Introduction to fMRI &gt; </a:t>
            </a:r>
            <a:r>
              <a:rPr b="0" lang="en-US" sz="1600" spc="-1" strike="noStrike">
                <a:solidFill>
                  <a:srgbClr val="00cc99"/>
                </a:solidFill>
                <a:latin typeface="Gill Sans MT"/>
              </a:rPr>
              <a:t>Classifiers on fMRI</a:t>
            </a: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 &gt; Data decomposition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453A-6BA8-4A71-88C2-9411998E6D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Thesis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Gill Sans MT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Gill Sans MT"/>
              </a:rPr>
              <a:t>Classifiers can be used to produce </a:t>
            </a:r>
            <a:r>
              <a:rPr b="0" i="1" lang="en-US" sz="4000" spc="-1" strike="noStrike">
                <a:solidFill>
                  <a:srgbClr val="333333"/>
                </a:solidFill>
                <a:latin typeface="Gill Sans MT"/>
              </a:rPr>
              <a:t>meaningful</a:t>
            </a:r>
            <a:r>
              <a:rPr b="0" lang="en-US" sz="4000" spc="-1" strike="noStrike">
                <a:solidFill>
                  <a:srgbClr val="333333"/>
                </a:solidFill>
                <a:latin typeface="Gill Sans MT"/>
              </a:rPr>
              <a:t> </a:t>
            </a:r>
            <a:r>
              <a:rPr b="0" i="1" lang="en-US" sz="4000" spc="-1" strike="noStrike">
                <a:solidFill>
                  <a:srgbClr val="333333"/>
                </a:solidFill>
                <a:latin typeface="Gill Sans MT"/>
              </a:rPr>
              <a:t>decompositions</a:t>
            </a:r>
            <a:r>
              <a:rPr b="0" lang="en-US" sz="4000" spc="-1" strike="noStrike">
                <a:solidFill>
                  <a:srgbClr val="333333"/>
                </a:solidFill>
                <a:latin typeface="Gill Sans MT"/>
              </a:rPr>
              <a:t> of the spatiotemporal structure of functional neuroimaging data</a:t>
            </a:r>
            <a:endParaRPr b="0" lang="en-US" sz="40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84CB-6F8A-4069-A447-1D7654DA83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Motivation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0769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What is a typical voxel doing?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Voxelwise normalized rank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error over test set, using a linear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discriminant classifier </a:t>
            </a:r>
            <a:r>
              <a:rPr b="0" lang="en-US" sz="2000" spc="-1" strike="noStrike">
                <a:solidFill>
                  <a:srgbClr val="333333"/>
                </a:solidFill>
                <a:latin typeface="Gill Sans MT"/>
              </a:rPr>
              <a:t>(red~0.25)</a:t>
            </a:r>
            <a:endParaRPr b="0" lang="en-US" sz="20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Classifier using several of these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has lower error </a:t>
            </a:r>
            <a:r>
              <a:rPr b="0" lang="en-US" sz="2000" spc="-1" strike="noStrike">
                <a:solidFill>
                  <a:srgbClr val="333333"/>
                </a:solidFill>
                <a:latin typeface="Gill Sans MT"/>
              </a:rPr>
              <a:t>(subject avg~0.08)</a:t>
            </a:r>
            <a:endParaRPr b="0" lang="en-US" sz="2000" spc="-1" strike="noStrike">
              <a:solidFill>
                <a:srgbClr val="333333"/>
              </a:solidFill>
              <a:latin typeface="Gill Sans MT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28600" y="4191120"/>
            <a:ext cx="5486400" cy="2103120"/>
            <a:chOff x="228600" y="4191120"/>
            <a:chExt cx="5486400" cy="210312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rcRect l="0" t="18251" r="5810" b="40670"/>
            <a:stretch/>
          </p:blipFill>
          <p:spPr>
            <a:xfrm>
              <a:off x="228600" y="4191120"/>
              <a:ext cx="5486400" cy="14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85440" y="5650200"/>
              <a:ext cx="88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Gill Sans MT"/>
                </a:rPr>
                <a:t>Subject1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14240" y="5650200"/>
              <a:ext cx="88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Gill Sans MT"/>
                </a:rPr>
                <a:t>Subject2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07120" y="5651640"/>
              <a:ext cx="88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Gill Sans MT"/>
                </a:rPr>
                <a:t>Subject3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133" name="voxelClass" descr=""/>
          <p:cNvPicPr/>
          <p:nvPr/>
        </p:nvPicPr>
        <p:blipFill>
          <a:blip r:embed="rId2"/>
          <a:stretch/>
        </p:blipFill>
        <p:spPr>
          <a:xfrm>
            <a:off x="4800600" y="838080"/>
            <a:ext cx="4343400" cy="3367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695280" y="4648320"/>
            <a:ext cx="22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ill Sans MT"/>
              </a:rPr>
              <a:t>[Mitchell et al,04]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-209520" y="6388200"/>
            <a:ext cx="63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Introduction to fMRI &gt; </a:t>
            </a:r>
            <a:r>
              <a:rPr b="0" lang="en-US" sz="1600" spc="-1" strike="noStrike">
                <a:solidFill>
                  <a:srgbClr val="00cc99"/>
                </a:solidFill>
                <a:latin typeface="Gill Sans MT"/>
              </a:rPr>
              <a:t>Classifiers on fMRI</a:t>
            </a: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 &gt; Data decomposition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FA6A-1241-4E05-BD0E-1DA0183736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Motivation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Gill Sans MT"/>
              </a:rPr>
              <a:t>Domain</a:t>
            </a:r>
            <a:endParaRPr b="0" lang="en-US" sz="40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High-dimensional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Features can be voxels or voxels at time </a:t>
            </a:r>
            <a:r>
              <a:rPr b="0" i="1" lang="en-US" sz="2400" spc="-1" strike="noStrike">
                <a:solidFill>
                  <a:srgbClr val="333333"/>
                </a:solidFill>
                <a:latin typeface="Gill Sans MT"/>
              </a:rPr>
              <a:t>t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Sparse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As many examples as blocks or trials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Spatial interactions</a:t>
            </a:r>
            <a:r>
              <a:rPr b="0" lang="en-US" sz="3600" spc="-1" strike="noStrike">
                <a:solidFill>
                  <a:srgbClr val="333333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(local, long-range)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Complicated noise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Signal drifts, presence of vessels, susceptibility artifacts, temporal correlation, …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8" name=""/>
          <p:cNvSpPr/>
          <p:nvPr/>
        </p:nvSpPr>
        <p:spPr>
          <a:xfrm>
            <a:off x="-209520" y="6388200"/>
            <a:ext cx="63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Introduction to fMRI &gt; </a:t>
            </a:r>
            <a:r>
              <a:rPr b="0" lang="en-US" sz="1600" spc="-1" strike="noStrike">
                <a:solidFill>
                  <a:srgbClr val="00cc99"/>
                </a:solidFill>
                <a:latin typeface="Gill Sans MT"/>
              </a:rPr>
              <a:t>Classifiers on fMRI</a:t>
            </a: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 &gt; Data decomposition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9" name="imagesToExamples_prev" descr=""/>
          <p:cNvPicPr/>
          <p:nvPr/>
        </p:nvPicPr>
        <p:blipFill>
          <a:blip r:embed="rId1"/>
          <a:stretch/>
        </p:blipFill>
        <p:spPr>
          <a:xfrm>
            <a:off x="2895480" y="990720"/>
            <a:ext cx="5562720" cy="87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5894-65E3-4078-AA0F-474ADFEF63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Research questions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Generic questions, in this domain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marL="318960" indent="-31896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Is it feasible to train classifiers?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lvl="1" marL="690840" indent="-26568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Are datasets large enough?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690840" indent="-26568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Can classifiers capture the relationships between features?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18960" indent="-31896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Is it helpful to select features and how?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lvl="1" marL="690840" indent="-26568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How do high-dimensionality, sparsity and use of cross-validation interact to influence generic feature selection strategies?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690840" indent="-26568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How can data from a control condition be used? Are there other domain-specific strategies?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18960" indent="-31896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How does each (group of) feature(s) get used by the classifier when making a prediction?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2" name=""/>
          <p:cNvSpPr/>
          <p:nvPr/>
        </p:nvSpPr>
        <p:spPr>
          <a:xfrm>
            <a:off x="-209520" y="6388200"/>
            <a:ext cx="63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Introduction to fMRI &gt; </a:t>
            </a:r>
            <a:r>
              <a:rPr b="0" lang="en-US" sz="1600" spc="-1" strike="noStrike">
                <a:solidFill>
                  <a:srgbClr val="00cc99"/>
                </a:solidFill>
                <a:latin typeface="Gill Sans MT"/>
              </a:rPr>
              <a:t>Classifiers on fMRI</a:t>
            </a: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 &gt; Data decomposition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4F98-0D2E-4605-9144-700521A499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Research questions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Domain-specific questions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How can data from multiple subjects be used?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How can information other than fMRI be used?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(behavioural, psychometric, other neuroimaging modalities)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5" name=""/>
          <p:cNvSpPr/>
          <p:nvPr/>
        </p:nvSpPr>
        <p:spPr>
          <a:xfrm>
            <a:off x="-209520" y="6388200"/>
            <a:ext cx="63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Introduction to fMRI &gt; </a:t>
            </a:r>
            <a:r>
              <a:rPr b="0" lang="en-US" sz="1600" spc="-1" strike="noStrike">
                <a:solidFill>
                  <a:srgbClr val="00cc99"/>
                </a:solidFill>
                <a:latin typeface="Gill Sans MT"/>
              </a:rPr>
              <a:t>Classifiers on fMRI</a:t>
            </a: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 &gt; Data decomposition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A7C1-9889-4157-A9D6-01B9397356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Preliminary work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Is it feasible to use classifiers?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Yes, 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Feature selection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Helps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Thus far, selecting voxels that are active works as well or better than selecting them by their individual accuracy on the training set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8" name=""/>
          <p:cNvSpPr/>
          <p:nvPr/>
        </p:nvSpPr>
        <p:spPr>
          <a:xfrm>
            <a:off x="-209520" y="6388200"/>
            <a:ext cx="63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Introduction to fMRI &gt; </a:t>
            </a:r>
            <a:r>
              <a:rPr b="0" lang="en-US" sz="1600" spc="-1" strike="noStrike">
                <a:solidFill>
                  <a:srgbClr val="00cc99"/>
                </a:solidFill>
                <a:latin typeface="Gill Sans MT"/>
              </a:rPr>
              <a:t>Classifiers on fMRI</a:t>
            </a: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 &gt; Data decomposition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9" name="resultsMLJ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8039160" cy="20574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736320" y="3505320"/>
            <a:ext cx="22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ill Sans MT"/>
              </a:rPr>
              <a:t>[Mitchell et al,04]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D4A1-E715-4440-92FD-E468EA1C70A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Proposed work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Classifiers and feature selection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Survey uses of feature selection in existing fMRI classifier applications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Develop domain specific strategies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Use activation vs control, consistency,…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Study interaction of dataset size, #features 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Testing of classifiers and feature selection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with real data from new tasks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with synthetic data, varying #examples and #features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evaluating result reliability measures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3" name=""/>
          <p:cNvSpPr/>
          <p:nvPr/>
        </p:nvSpPr>
        <p:spPr>
          <a:xfrm>
            <a:off x="-209520" y="6388200"/>
            <a:ext cx="63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Introduction to fMRI &gt; </a:t>
            </a:r>
            <a:r>
              <a:rPr b="0" lang="en-US" sz="1600" spc="-1" strike="noStrike">
                <a:solidFill>
                  <a:srgbClr val="00cc99"/>
                </a:solidFill>
                <a:latin typeface="Gill Sans MT"/>
              </a:rPr>
              <a:t>Classifiers on fMRI</a:t>
            </a: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 &gt; Data decomposition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D1E9-2348-4502-8FE6-CE823AC99A3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Preliminary work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Feature relevance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How does each (group of) feature(s) get used by the classifier when making a prediction?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Voxel contributions to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a gaussian naïve bayes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classifier (earlier)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Voxel contribution to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making train and test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images more spatially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correlated in a nearest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neighbour classifier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6" name=""/>
          <p:cNvSpPr/>
          <p:nvPr/>
        </p:nvSpPr>
        <p:spPr>
          <a:xfrm>
            <a:off x="-209520" y="6388200"/>
            <a:ext cx="63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Introduction to fMRI &gt; </a:t>
            </a:r>
            <a:r>
              <a:rPr b="0" lang="en-US" sz="1600" spc="-1" strike="noStrike">
                <a:solidFill>
                  <a:srgbClr val="00cc99"/>
                </a:solidFill>
                <a:latin typeface="Gill Sans MT"/>
              </a:rPr>
              <a:t>Classifiers on fMRI</a:t>
            </a: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 &gt; Data decomposition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657600" y="2514600"/>
            <a:ext cx="5257440" cy="3200040"/>
            <a:chOff x="3657600" y="2514600"/>
            <a:chExt cx="5257440" cy="3200040"/>
          </a:xfrm>
        </p:grpSpPr>
        <p:pic>
          <p:nvPicPr>
            <p:cNvPr id="158" name="P1P2contrib" descr=""/>
            <p:cNvPicPr/>
            <p:nvPr/>
          </p:nvPicPr>
          <p:blipFill>
            <a:blip r:embed="rId1"/>
            <a:stretch/>
          </p:blipFill>
          <p:spPr>
            <a:xfrm>
              <a:off x="4913280" y="2975400"/>
              <a:ext cx="4001760" cy="27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4797000" y="2514600"/>
              <a:ext cx="79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Gill Sans MT"/>
                </a:rPr>
                <a:t>Trai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34840" y="2514600"/>
              <a:ext cx="67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Gill Sans MT"/>
                </a:rPr>
                <a:t>Test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39560" y="251460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Gill Sans MT"/>
                </a:rPr>
                <a:t>Contrib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053600" y="3344400"/>
              <a:ext cx="81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Gill Sans MT"/>
                </a:rPr>
                <a:t>Tools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57600" y="4727160"/>
              <a:ext cx="129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Gill Sans MT"/>
                </a:rPr>
                <a:t>Dwellings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5991480" y="5958000"/>
            <a:ext cx="276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ill Sans MT"/>
              </a:rPr>
              <a:t>[Pereira et al,in prep.]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FCD9-6BBB-4627-84C8-486F97E5394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Proposed work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Feature Relevance </a:t>
            </a: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(for successful classifier/dataset pairs)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Review methods for determining feature relevance, considering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Use of groups of features </a:t>
            </a:r>
            <a:r>
              <a:rPr b="0" lang="en-US" sz="2000" spc="-1" strike="noStrike">
                <a:solidFill>
                  <a:srgbClr val="333333"/>
                </a:solidFill>
                <a:latin typeface="Gill Sans MT"/>
              </a:rPr>
              <a:t>(also see Decompositions)</a:t>
            </a:r>
            <a:endParaRPr b="0" lang="en-US" sz="2000" spc="-1" strike="noStrike">
              <a:solidFill>
                <a:srgbClr val="333333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Classifier dependence/independence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Deploy all the methods and contrast the views of feature usage for the same dataset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7" name=""/>
          <p:cNvSpPr/>
          <p:nvPr/>
        </p:nvSpPr>
        <p:spPr>
          <a:xfrm>
            <a:off x="-209520" y="6388200"/>
            <a:ext cx="63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Introduction to fMRI &gt; </a:t>
            </a:r>
            <a:r>
              <a:rPr b="0" lang="en-US" sz="1600" spc="-1" strike="noStrike">
                <a:solidFill>
                  <a:srgbClr val="00cc99"/>
                </a:solidFill>
                <a:latin typeface="Gill Sans MT"/>
              </a:rPr>
              <a:t>Classifiers on fMRI</a:t>
            </a: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 &gt; Data decomposition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291C-2F33-4239-B3C6-412CAD7AF2C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Proposed work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How can data from multiple subjects be combined?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(behavioural, psychometric, other neuroimaging modalities,etc)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Proposed work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lvl="1" marL="713160" indent="-2743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Use feature combinations to produce a feature space comparable over subjects </a:t>
            </a: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(e.g. average active voxels in one region, [Wang/Hutchinson,03])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13160" indent="-2743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Share learnt representations or parameters across subjects </a:t>
            </a: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(e.g. shared hidden layer in a neural network using data from all subjects)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70" name=""/>
          <p:cNvSpPr/>
          <p:nvPr/>
        </p:nvSpPr>
        <p:spPr>
          <a:xfrm>
            <a:off x="-209520" y="6388200"/>
            <a:ext cx="63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Introduction to fMRI &gt; </a:t>
            </a:r>
            <a:r>
              <a:rPr b="0" lang="en-US" sz="1600" spc="-1" strike="noStrike">
                <a:solidFill>
                  <a:srgbClr val="00cc99"/>
                </a:solidFill>
                <a:latin typeface="Gill Sans MT"/>
              </a:rPr>
              <a:t>Classifiers on fMRI</a:t>
            </a: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 &gt; Data decomposition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A1C9-F8D9-4F3C-AB3F-8EB5D457682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Proposed work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How can information other than fMRI be used?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(behavioural, psychometric, other neuroimaging modalities,etc)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Proposed work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Predict them instead of predicting task labels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Predict them </a:t>
            </a:r>
            <a:r>
              <a:rPr b="0" i="1" lang="en-US" sz="2800" spc="-1" strike="noStrike">
                <a:solidFill>
                  <a:srgbClr val="333333"/>
                </a:solidFill>
                <a:latin typeface="Gill Sans MT"/>
              </a:rPr>
              <a:t>in addition to</a:t>
            </a: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 predicting task labels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As additional features or as input to a meta-classifier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73" name=""/>
          <p:cNvSpPr/>
          <p:nvPr/>
        </p:nvSpPr>
        <p:spPr>
          <a:xfrm>
            <a:off x="-209520" y="6388200"/>
            <a:ext cx="63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Introduction to fMRI &gt; </a:t>
            </a:r>
            <a:r>
              <a:rPr b="0" lang="en-US" sz="1600" spc="-1" strike="noStrike">
                <a:solidFill>
                  <a:srgbClr val="00cc99"/>
                </a:solidFill>
                <a:latin typeface="Gill Sans MT"/>
              </a:rPr>
              <a:t>Classifiers on fMRI</a:t>
            </a: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 &gt; Data decomposition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FC5D-5456-4430-97C3-62B0E082EDB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Thesis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Gill Sans MT"/>
              </a:rPr>
              <a:t>Decomposition</a:t>
            </a:r>
            <a:endParaRPr b="0" lang="en-US" sz="4000" spc="-1" strike="noStrike">
              <a:solidFill>
                <a:srgbClr val="333333"/>
              </a:solidFill>
              <a:latin typeface="Gill Sans MT"/>
            </a:endParaRPr>
          </a:p>
          <a:p>
            <a:pPr lvl="1" marL="713160" indent="-274320">
              <a:lnSpc>
                <a:spcPct val="90000"/>
              </a:lnSpc>
              <a:spcBef>
                <a:spcPts val="9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ill Sans MT"/>
              </a:rPr>
              <a:t>Division of a complex 4D dataset into a number of elements</a:t>
            </a:r>
            <a:endParaRPr b="0" lang="en-US" sz="3600" spc="-1" strike="noStrike">
              <a:solidFill>
                <a:srgbClr val="333333"/>
              </a:solidFill>
              <a:latin typeface="Gill Sans MT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Gill Sans MT"/>
              </a:rPr>
              <a:t>Meaningful</a:t>
            </a:r>
            <a:endParaRPr b="0" lang="en-US" sz="4000" spc="-1" strike="noStrike">
              <a:solidFill>
                <a:srgbClr val="333333"/>
              </a:solidFill>
              <a:latin typeface="Gill Sans MT"/>
            </a:endParaRPr>
          </a:p>
          <a:p>
            <a:pPr lvl="1" marL="713160" indent="-274320">
              <a:lnSpc>
                <a:spcPct val="90000"/>
              </a:lnSpc>
              <a:spcBef>
                <a:spcPts val="9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ill Sans MT"/>
              </a:rPr>
              <a:t>The elements of a decomposition are used to predict a variable of interest</a:t>
            </a:r>
            <a:endParaRPr b="0" lang="en-US" sz="3600" spc="-1" strike="noStrike">
              <a:solidFill>
                <a:srgbClr val="333333"/>
              </a:solidFill>
              <a:latin typeface="Gill Sans MT"/>
            </a:endParaRPr>
          </a:p>
          <a:p>
            <a:pPr lvl="1" marL="713160" indent="-274320">
              <a:lnSpc>
                <a:spcPct val="90000"/>
              </a:lnSpc>
              <a:spcBef>
                <a:spcPts val="9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ill Sans MT"/>
              </a:rPr>
              <a:t>The prediction function sheds light on how they relate to that variable and each other</a:t>
            </a:r>
            <a:endParaRPr b="0" lang="en-US" sz="36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198D-1E81-4E75-AE89-7CEDC83CAA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Preliminary work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Infrastructure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Several classifiers implemented or integrated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Various feature selection strategies implemented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Utilities for processing raw data, selecting features and running classification experiments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76" name=""/>
          <p:cNvSpPr/>
          <p:nvPr/>
        </p:nvSpPr>
        <p:spPr>
          <a:xfrm>
            <a:off x="-209520" y="6388200"/>
            <a:ext cx="63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Introduction to fMRI &gt; </a:t>
            </a:r>
            <a:r>
              <a:rPr b="0" lang="en-US" sz="1600" spc="-1" strike="noStrike">
                <a:solidFill>
                  <a:srgbClr val="00cc99"/>
                </a:solidFill>
                <a:latin typeface="Gill Sans MT"/>
              </a:rPr>
              <a:t>Classifiers on fMRI</a:t>
            </a: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 &gt; Data decomposition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8969-6B12-4269-9BE2-50C16A80F3F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Outline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ill Sans MT"/>
              </a:rPr>
              <a:t>Introduction to fMRI</a:t>
            </a:r>
            <a:endParaRPr b="0" lang="en-US" sz="36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ill Sans MT"/>
              </a:rPr>
              <a:t>Training classifiers with neuroimaging data</a:t>
            </a:r>
            <a:endParaRPr b="0" lang="en-US" sz="36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Gill Sans MT"/>
              </a:rPr>
              <a:t>Data decompositions</a:t>
            </a:r>
            <a:endParaRPr b="0" lang="en-US" sz="36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Motivation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Research questions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Prior and proposed work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ill Sans MT"/>
              </a:rPr>
              <a:t>Research Timeline</a:t>
            </a:r>
            <a:endParaRPr b="0" lang="en-US" sz="36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79" name=""/>
          <p:cNvSpPr/>
          <p:nvPr/>
        </p:nvSpPr>
        <p:spPr>
          <a:xfrm>
            <a:off x="-209520" y="6388200"/>
            <a:ext cx="634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Introduction to fMRI &gt; Classifiers on fMRI &gt; </a:t>
            </a:r>
            <a:r>
              <a:rPr b="0" lang="en-US" sz="1600" spc="-1" strike="noStrike">
                <a:solidFill>
                  <a:srgbClr val="00cc99"/>
                </a:solidFill>
                <a:latin typeface="Gill Sans MT"/>
              </a:rPr>
              <a:t>Data decomposition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8452-1C0F-4F1E-870A-FC56346B165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Motivation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Hypothetical decomposition of a hypothetical dataset 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60020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An image decomposed into three spatial componen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-209520" y="6388200"/>
            <a:ext cx="634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Introduction to fMRI &gt; Classifiers on fMRI &gt; </a:t>
            </a:r>
            <a:r>
              <a:rPr b="0" lang="en-US" sz="1600" spc="-1" strike="noStrike">
                <a:solidFill>
                  <a:srgbClr val="00cc99"/>
                </a:solidFill>
                <a:latin typeface="Gill Sans MT"/>
              </a:rPr>
              <a:t>Data decomposition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3429000"/>
            <a:ext cx="7924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A mapping between an image and a classifier examp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5" name="imagesToExamples3_prev" descr=""/>
          <p:cNvPicPr/>
          <p:nvPr/>
        </p:nvPicPr>
        <p:blipFill>
          <a:blip r:embed="rId1"/>
          <a:stretch/>
        </p:blipFill>
        <p:spPr>
          <a:xfrm>
            <a:off x="838080" y="4191120"/>
            <a:ext cx="4572000" cy="709560"/>
          </a:xfrm>
          <a:prstGeom prst="rect">
            <a:avLst/>
          </a:prstGeom>
          <a:ln w="0">
            <a:noFill/>
          </a:ln>
        </p:spPr>
      </p:pic>
      <p:pic>
        <p:nvPicPr>
          <p:cNvPr id="186" name="decompositionExampleSimple_ctiff" descr=""/>
          <p:cNvPicPr/>
          <p:nvPr/>
        </p:nvPicPr>
        <p:blipFill>
          <a:blip r:embed="rId2"/>
          <a:stretch/>
        </p:blipFill>
        <p:spPr>
          <a:xfrm>
            <a:off x="838080" y="2133720"/>
            <a:ext cx="5715000" cy="111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4839-261E-4892-A6E7-70C8EFAD958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Motivation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Hypothetical decomposition of a hypothetical dataset 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</p:txBody>
      </p:sp>
      <p:pic>
        <p:nvPicPr>
          <p:cNvPr id="189" name="decompositionExample_prev" descr=""/>
          <p:cNvPicPr/>
          <p:nvPr/>
        </p:nvPicPr>
        <p:blipFill>
          <a:blip r:embed="rId1"/>
          <a:stretch/>
        </p:blipFill>
        <p:spPr>
          <a:xfrm>
            <a:off x="0" y="3276720"/>
            <a:ext cx="8534520" cy="25905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57200" y="27432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A dataset decomposed into a basis of spatial componen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-209520" y="6388200"/>
            <a:ext cx="634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Introduction to fMRI &gt; Classifiers on fMRI &gt; </a:t>
            </a:r>
            <a:r>
              <a:rPr b="0" lang="en-US" sz="1600" spc="-1" strike="noStrike">
                <a:solidFill>
                  <a:srgbClr val="00cc99"/>
                </a:solidFill>
                <a:latin typeface="Gill Sans MT"/>
              </a:rPr>
              <a:t>Data decomposition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92" name="decompositionExampleSimple_ctiff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5715000" cy="103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D331-564E-448D-A1FD-74DDC9C5E5B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Motivation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What is this useful for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By itself, for decomposing the dataset into a small number of elements that are easier to grasp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With classifiers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By reducing dimensionality, thus allowing more complex classifiers to be trained with the same number of data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More complex classifiers can capture more complex interactions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A classifier with fewer features will make it simpler to interpret their relevance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95" name=""/>
          <p:cNvSpPr/>
          <p:nvPr/>
        </p:nvSpPr>
        <p:spPr>
          <a:xfrm>
            <a:off x="-209520" y="6388200"/>
            <a:ext cx="634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Introduction to fMRI &gt; Classifiers on fMRI &gt; </a:t>
            </a:r>
            <a:r>
              <a:rPr b="0" lang="en-US" sz="1600" spc="-1" strike="noStrike">
                <a:solidFill>
                  <a:srgbClr val="00cc99"/>
                </a:solidFill>
                <a:latin typeface="Gill Sans MT"/>
              </a:rPr>
              <a:t>Data decomposition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85B6-1AD6-4358-A219-1657001D87C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Motivation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Pattern examples (temporal)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98" name=""/>
          <p:cNvSpPr/>
          <p:nvPr/>
        </p:nvSpPr>
        <p:spPr>
          <a:xfrm>
            <a:off x="1581840" y="5334120"/>
            <a:ext cx="47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Temporal ICA ([Calhoun, ICA03]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99" name="ica2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2960640" cy="36212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-209520" y="6388200"/>
            <a:ext cx="634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Introduction to fMRI &gt; Classifiers on fMRI &gt; </a:t>
            </a:r>
            <a:r>
              <a:rPr b="0" lang="en-US" sz="1600" spc="-1" strike="noStrike">
                <a:solidFill>
                  <a:srgbClr val="00cc99"/>
                </a:solidFill>
                <a:latin typeface="Gill Sans MT"/>
              </a:rPr>
              <a:t>Data decomposition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AD6D-536A-45F3-A62F-940A88C3FA8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Motivation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Pattern examples (spatial)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03" name=""/>
          <p:cNvSpPr/>
          <p:nvPr/>
        </p:nvSpPr>
        <p:spPr>
          <a:xfrm>
            <a:off x="-209520" y="6388200"/>
            <a:ext cx="634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Introduction to fMRI &gt; Classifiers on fMRI &gt; </a:t>
            </a:r>
            <a:r>
              <a:rPr b="0" lang="en-US" sz="1600" spc="-1" strike="noStrike">
                <a:solidFill>
                  <a:srgbClr val="00cc99"/>
                </a:solidFill>
                <a:latin typeface="Gill Sans MT"/>
              </a:rPr>
              <a:t>Data decomposition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04" name="SVD-focus1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205" name="SVD-focus2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1133640" cy="1143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38760" y="320040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Task 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5080" y="495288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Task 3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D439-B478-4D7D-914F-C1F34B37FA9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Motivation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Pattern examples (spatial)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10" name=""/>
          <p:cNvSpPr/>
          <p:nvPr/>
        </p:nvSpPr>
        <p:spPr>
          <a:xfrm>
            <a:off x="4561200" y="5562720"/>
            <a:ext cx="40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Spatial SVD (synthetic data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124080" y="2057400"/>
            <a:ext cx="5049720" cy="3218040"/>
            <a:chOff x="3124080" y="2057400"/>
            <a:chExt cx="5049720" cy="3218040"/>
          </a:xfrm>
        </p:grpSpPr>
        <p:pic>
          <p:nvPicPr>
            <p:cNvPr id="212" name="SVD-component1" descr=""/>
            <p:cNvPicPr/>
            <p:nvPr/>
          </p:nvPicPr>
          <p:blipFill>
            <a:blip r:embed="rId1"/>
            <a:stretch/>
          </p:blipFill>
          <p:spPr>
            <a:xfrm>
              <a:off x="3124080" y="2057400"/>
              <a:ext cx="1223640" cy="11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SVD-series1" descr=""/>
            <p:cNvPicPr/>
            <p:nvPr/>
          </p:nvPicPr>
          <p:blipFill>
            <a:blip r:embed="rId2"/>
            <a:stretch/>
          </p:blipFill>
          <p:spPr>
            <a:xfrm>
              <a:off x="4780440" y="2057400"/>
              <a:ext cx="3384000" cy="152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SVD-series2" descr=""/>
            <p:cNvPicPr/>
            <p:nvPr/>
          </p:nvPicPr>
          <p:blipFill>
            <a:blip r:embed="rId3"/>
            <a:stretch/>
          </p:blipFill>
          <p:spPr>
            <a:xfrm>
              <a:off x="4780440" y="3747240"/>
              <a:ext cx="3393360" cy="152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SVD-component2" descr=""/>
            <p:cNvPicPr/>
            <p:nvPr/>
          </p:nvPicPr>
          <p:blipFill>
            <a:blip r:embed="rId4"/>
            <a:stretch/>
          </p:blipFill>
          <p:spPr>
            <a:xfrm>
              <a:off x="3124080" y="3747240"/>
              <a:ext cx="1223640" cy="112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"/>
          <p:cNvSpPr/>
          <p:nvPr/>
        </p:nvSpPr>
        <p:spPr>
          <a:xfrm>
            <a:off x="-209520" y="6388200"/>
            <a:ext cx="634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Introduction to fMRI &gt; Classifiers on fMRI &gt; </a:t>
            </a:r>
            <a:r>
              <a:rPr b="0" lang="en-US" sz="1600" spc="-1" strike="noStrike">
                <a:solidFill>
                  <a:srgbClr val="00cc99"/>
                </a:solidFill>
                <a:latin typeface="Gill Sans MT"/>
              </a:rPr>
              <a:t>Data decomposition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17" name="SVD-focus1" descr=""/>
          <p:cNvPicPr/>
          <p:nvPr/>
        </p:nvPicPr>
        <p:blipFill>
          <a:blip r:embed="rId5"/>
          <a:stretch/>
        </p:blipFill>
        <p:spPr>
          <a:xfrm>
            <a:off x="380880" y="205740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218" name="SVD-focus2" descr=""/>
          <p:cNvPicPr/>
          <p:nvPr/>
        </p:nvPicPr>
        <p:blipFill>
          <a:blip r:embed="rId6"/>
          <a:stretch/>
        </p:blipFill>
        <p:spPr>
          <a:xfrm>
            <a:off x="380880" y="3733920"/>
            <a:ext cx="1133640" cy="1143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38760" y="320040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Task 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5080" y="495288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Task 3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BD0C-BC51-4C28-92C1-CECA77D3559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Research questions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Which decompositions can be applied? 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How should they be used with classifiers?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23" name=""/>
          <p:cNvSpPr/>
          <p:nvPr/>
        </p:nvSpPr>
        <p:spPr>
          <a:xfrm>
            <a:off x="-209520" y="6388200"/>
            <a:ext cx="634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Introduction to fMRI &gt; Classifiers on fMRI &gt; </a:t>
            </a:r>
            <a:r>
              <a:rPr b="0" lang="en-US" sz="1600" spc="-1" strike="noStrike">
                <a:solidFill>
                  <a:srgbClr val="00cc99"/>
                </a:solidFill>
                <a:latin typeface="Gill Sans MT"/>
              </a:rPr>
              <a:t>Data decomposition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1B34-EC64-4363-9FBE-5876D3F657E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Proposed work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Which decompositions can be applied? 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What types of patterns can they capture?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ill Sans MT"/>
              </a:rPr>
              <a:t>(e.g. orthogonal basis minimizing error, independent factors, etc)</a:t>
            </a:r>
            <a:endParaRPr b="0" lang="en-US" sz="20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Can they be used to capture fMRI patterns?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Proposed work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Review past applications of decompositions to fMRI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Identify known decompositions that haven’t been used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Systematically study, using real and synthetic data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ill Sans MT"/>
              </a:rPr>
              <a:t>What kinds of patterns can be captured, from data containing hypothesized or known patterns</a:t>
            </a:r>
            <a:endParaRPr b="0" lang="en-US" sz="2000" spc="-1" strike="noStrike">
              <a:solidFill>
                <a:srgbClr val="333333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ill Sans MT"/>
              </a:rPr>
              <a:t>The robustness of the methods to dataset characteristics</a:t>
            </a:r>
            <a:endParaRPr b="0" lang="en-US" sz="20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26" name=""/>
          <p:cNvSpPr/>
          <p:nvPr/>
        </p:nvSpPr>
        <p:spPr>
          <a:xfrm>
            <a:off x="-209520" y="6388200"/>
            <a:ext cx="634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Introduction to fMRI &gt; Classifiers on fMRI &gt; </a:t>
            </a:r>
            <a:r>
              <a:rPr b="0" lang="en-US" sz="1600" spc="-1" strike="noStrike">
                <a:solidFill>
                  <a:srgbClr val="00cc99"/>
                </a:solidFill>
                <a:latin typeface="Gill Sans MT"/>
              </a:rPr>
              <a:t>Data decomposition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9331-B254-423D-8306-38AE2B30EBD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Motivation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Is it possible to decode the task information/cognitive state of a subject from the images?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If so, can this help us find an underlying structure in the image that is related to what we’re trying to predict?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Is there a connection between that structure and other information available (e.g. lesion data, behavioural studies)?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1F82-98D4-4920-ABE9-D2CAAA1FB1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Proposed Work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How should they be used with a classifier?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Proposed work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Compare the performance of using decompositions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ill Sans MT"/>
              </a:rPr>
              <a:t>As a preprocessing step producing new features</a:t>
            </a:r>
            <a:endParaRPr b="0" lang="en-US" sz="20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ill Sans MT"/>
              </a:rPr>
              <a:t>Adapted so as to have classification error/label information modify the results produced by the original method.</a:t>
            </a:r>
            <a:endParaRPr b="0" lang="en-US" sz="20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ill Sans MT"/>
              </a:rPr>
              <a:t>Implicitly in a classifier that learns a decomposition</a:t>
            </a:r>
            <a:endParaRPr b="0" lang="en-US" sz="20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29" name=""/>
          <p:cNvSpPr/>
          <p:nvPr/>
        </p:nvSpPr>
        <p:spPr>
          <a:xfrm>
            <a:off x="-209520" y="6388200"/>
            <a:ext cx="634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Introduction to fMRI &gt; Classifiers on fMRI &gt; </a:t>
            </a:r>
            <a:r>
              <a:rPr b="0" lang="en-US" sz="1600" spc="-1" strike="noStrike">
                <a:solidFill>
                  <a:srgbClr val="00cc99"/>
                </a:solidFill>
                <a:latin typeface="Gill Sans MT"/>
              </a:rPr>
              <a:t>Data decomposition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E1CB-8242-436D-BED2-DBA2A67998B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Proposed Work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How should they be used with a classifier?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Proposed work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Compare the performance of using decompositions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ill Sans MT"/>
              </a:rPr>
              <a:t>As a preprocessing step producing new features</a:t>
            </a:r>
            <a:endParaRPr b="0" lang="en-US" sz="20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ill Sans MT"/>
              </a:rPr>
              <a:t>Adapted so as to have classification error/label information modify the results produced by the original method.</a:t>
            </a:r>
            <a:endParaRPr b="0" lang="en-US" sz="20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ill Sans MT"/>
              </a:rPr>
              <a:t>Implicitly in a classifier that learns a decomposition</a:t>
            </a:r>
            <a:endParaRPr b="0" lang="en-US" sz="20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Develop ways of making decompositions that incorporate no label information do so, in addition to the principle they follow.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32" name=""/>
          <p:cNvSpPr/>
          <p:nvPr/>
        </p:nvSpPr>
        <p:spPr>
          <a:xfrm>
            <a:off x="-209520" y="6388200"/>
            <a:ext cx="634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Introduction to fMRI &gt; Classifiers on fMRI &gt; </a:t>
            </a:r>
            <a:r>
              <a:rPr b="0" lang="en-US" sz="1600" spc="-1" strike="noStrike">
                <a:solidFill>
                  <a:srgbClr val="00cc99"/>
                </a:solidFill>
                <a:latin typeface="Gill Sans MT"/>
              </a:rPr>
              <a:t>Data decomposition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DD45-ECA4-4735-AF6E-B1792222455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Proposed Work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How should they be used with a classifier?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Proposed work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Compare the performance of using decompositions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ill Sans MT"/>
              </a:rPr>
              <a:t>As a preprocessing step producing new features</a:t>
            </a:r>
            <a:endParaRPr b="0" lang="en-US" sz="20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ill Sans MT"/>
              </a:rPr>
              <a:t>Adapted so as to have classification error/label information modify the results produced by the original method.</a:t>
            </a:r>
            <a:endParaRPr b="0" lang="en-US" sz="20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ill Sans MT"/>
              </a:rPr>
              <a:t>Implicitly in a classifier that learns a decomposition</a:t>
            </a:r>
            <a:endParaRPr b="0" lang="en-US" sz="20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Develop ways of making decompositions that incorporate no label information do so, in addition to the principle they follow.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Explore ways of using them to incorporate unlabelled data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35" name=""/>
          <p:cNvSpPr/>
          <p:nvPr/>
        </p:nvSpPr>
        <p:spPr>
          <a:xfrm>
            <a:off x="-209520" y="6388200"/>
            <a:ext cx="634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Introduction to fMRI &gt; Classifiers on fMRI &gt; </a:t>
            </a:r>
            <a:r>
              <a:rPr b="0" lang="en-US" sz="1600" spc="-1" strike="noStrike">
                <a:solidFill>
                  <a:srgbClr val="00cc99"/>
                </a:solidFill>
                <a:latin typeface="Gill Sans MT"/>
              </a:rPr>
              <a:t>Data decomposition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BD30-D7B7-4C16-B7AF-8D022F35E35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Preliminary/related work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Decompositions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Classic ones implemented/integrated (SVD,ICA,etc)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Visualization tools for spatial/temporal components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Existing results on semantic categorization data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ill Sans MT"/>
              </a:rPr>
              <a:t>([Hanson04])</a:t>
            </a: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 indicate that: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Decompositions as preprocessing can outperform feature selection </a:t>
            </a:r>
            <a:r>
              <a:rPr b="0" lang="en-US" sz="2000" spc="-1" strike="noStrike">
                <a:solidFill>
                  <a:srgbClr val="333333"/>
                </a:solidFill>
                <a:latin typeface="Gill Sans MT"/>
              </a:rPr>
              <a:t>(SVD+linear discriminant/nearest neighbour attain 78%/66%)</a:t>
            </a:r>
            <a:endParaRPr b="0" lang="en-US" sz="20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Decompositions using labels can outperform those without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ill Sans MT"/>
              </a:rPr>
              <a:t>(neural nets/SVD+linear discriminant attain 82%/78%)</a:t>
            </a: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38" name=""/>
          <p:cNvSpPr/>
          <p:nvPr/>
        </p:nvSpPr>
        <p:spPr>
          <a:xfrm>
            <a:off x="-209520" y="6388200"/>
            <a:ext cx="634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Introduction to fMRI &gt; Classifiers on fMRI &gt; </a:t>
            </a:r>
            <a:r>
              <a:rPr b="0" lang="en-US" sz="1600" spc="-1" strike="noStrike">
                <a:solidFill>
                  <a:srgbClr val="00cc99"/>
                </a:solidFill>
                <a:latin typeface="Gill Sans MT"/>
              </a:rPr>
              <a:t>Data decomposition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D52C-6EBC-43EA-8BA2-8252444C200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Proposed work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Data synthesizer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marL="312120" indent="-31212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Required for both classifier and decomposition proposed work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12120" indent="-31212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Voxels should have any collective pattern of activity in response to a variable of interest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12120" indent="-31212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Generates a plausible synthetic fMRI signal from voxels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12120" indent="-31212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Allows plug-in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lvl="1" marL="676080" indent="-2599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Spatial/temporal noise models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676080" indent="-2599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Hemodynamic model (the voxel to fMRI signal mechanism)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In development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BF62-1EB8-46C0-9383-72D8A240828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Outline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ill Sans MT"/>
              </a:rPr>
              <a:t>Introduction to fMRI</a:t>
            </a:r>
            <a:endParaRPr b="0" lang="en-US" sz="36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ill Sans MT"/>
              </a:rPr>
              <a:t>Training classifiers with neuroimaging data</a:t>
            </a:r>
            <a:endParaRPr b="0" lang="en-US" sz="36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ill Sans MT"/>
              </a:rPr>
              <a:t>Data decompositions</a:t>
            </a:r>
            <a:endParaRPr b="0" lang="en-US" sz="36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Gill Sans MT"/>
              </a:rPr>
              <a:t>Research Timeline</a:t>
            </a:r>
            <a:endParaRPr b="0" lang="en-US" sz="36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E425-7192-44BC-87B7-5793D706D5C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Contributions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Show that classifiers can be used to decode variables of interest 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A systematic treatment of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How to deploy classifiers and feature selection methods on fMRI data and relate the data to the prediction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How to deploy decompositions on fMRI data and use them in conjunction with classifiers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A prototype system for producing decompositions of the data related to a variable of interest, together with visualizations of that relation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A1D8-4B07-4DC8-A420-BDC659A7B31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Research Timeline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Gill Sans MT"/>
              </a:rPr>
              <a:t>March-June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Collect remaining datasets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Classifier and feature selection reading and development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Decomposition reading and research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Reading and development of data synthesizer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Gill Sans MT"/>
              </a:rPr>
              <a:t>July-October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Classifier experiments on real and synthetic data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Decomposition development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Design and implementation of visualizations for feature relevance and decompositions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Combined experiments of all the above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3C2B-13CB-4110-8102-C76C075980B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Research Timeline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Gill Sans MT"/>
              </a:rPr>
              <a:t>November-March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Development and classifier experiments on use of other sources of information and multiple subject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Research on adapting decompositions to use label information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Combined experiments with all the previous work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Gill Sans MT"/>
              </a:rPr>
              <a:t>April-May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Integration of components, building and testing of the prototype system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Gill Sans MT"/>
              </a:rPr>
              <a:t>May-August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Thesis writing, Defense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8D6F-243F-4B6D-8E63-BF92F703B72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Research Timeline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Past performance or lack thereof is no indication of future returns.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More details on the brochure.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Please read before investing.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E7E8-EB83-4614-9F90-798A150B249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Outline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Gill Sans MT"/>
              </a:rPr>
              <a:t>Introduction to fMRI</a:t>
            </a:r>
            <a:endParaRPr b="0" lang="en-US" sz="36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ill Sans MT"/>
              </a:rPr>
              <a:t>Training classifiers with neuroimaging data</a:t>
            </a:r>
            <a:endParaRPr b="0" lang="en-US" sz="36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ill Sans MT"/>
              </a:rPr>
              <a:t>Data decompositions</a:t>
            </a:r>
            <a:endParaRPr b="0" lang="en-US" sz="36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ill Sans MT"/>
              </a:rPr>
              <a:t>Research Timeline</a:t>
            </a:r>
            <a:endParaRPr b="0" lang="en-US" sz="36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2" name=""/>
          <p:cNvSpPr/>
          <p:nvPr/>
        </p:nvSpPr>
        <p:spPr>
          <a:xfrm>
            <a:off x="-209520" y="6388200"/>
            <a:ext cx="63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Gill Sans MT"/>
              </a:rPr>
              <a:t>Introduction to fMRI</a:t>
            </a: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 &gt; Classifiers on fMRI &gt; Data decomposition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E323-2CF8-4D3A-9854-20FBD7A734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Research done so far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Infrastructure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Classification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Several classifiers implemented or integrated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Many feature selection strategies implemented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Decompositions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Classic ones implemented/integrated (SVD,ICA,PLS)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Integration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Utilities for setting up a processing stream from raw data to classification tasks, going through feature selection or decomposition.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Easy to plug in new classifiers, decompositions, etc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Data format that maintains cognitive/behavioural information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5341-95B4-448E-B241-BEEA2D7521B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Research done so far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Used all of that on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Paper I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Paper II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5129-32DA-4719-BEF7-519E0421D69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The end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ill Sans MT"/>
              </a:rPr>
              <a:t>Introduction to fMRI</a:t>
            </a:r>
            <a:endParaRPr b="0" lang="en-US" sz="36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ill Sans MT"/>
              </a:rPr>
              <a:t>Training classifiers with neuroimaging data</a:t>
            </a:r>
            <a:endParaRPr b="0" lang="en-US" sz="36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ill Sans MT"/>
              </a:rPr>
              <a:t>Data decompositions</a:t>
            </a:r>
            <a:endParaRPr b="0" lang="en-US" sz="36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Applying them to neuroimaging data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Using them with classifiers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Gill Sans MT"/>
              </a:rPr>
              <a:t>Research Timeline</a:t>
            </a:r>
            <a:endParaRPr b="0" lang="en-US" sz="36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C18A-DB7D-4520-8104-7799B72F173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Classifier analysis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Decoding of a variable of interest (e.g. task) from the images, using a classifier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Using voxels as features, the decision is a function of many voxels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Different tasks can be predicted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Reading ambiguous sentence vs. unambiguous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Seeing a picture vs. reading a sentence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Using several different classifiers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NNbr, Naïve Bayes, SVMs, NNets, …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E4F0-D570-4866-B736-65CD7AB3BFB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Classifier analysis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Questions of interest: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Where in the brain is activity different in response to different semantic categories?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Is it possible to decode the semantic category the a subject was considering from an image?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Are there cross-subject similarities, either in terms of the spatial distribution of signal or in which categories can be decode?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8971-67B4-44C1-B5AA-D98C8B03F38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Classifier analysis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Where in the brain is activity different in response to different semantic categories?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457200" y="1981080"/>
            <a:ext cx="7772400" cy="2562120"/>
            <a:chOff x="457200" y="1981080"/>
            <a:chExt cx="7772400" cy="2562120"/>
          </a:xfrm>
        </p:grpSpPr>
        <p:pic>
          <p:nvPicPr>
            <p:cNvPr id="264" name="" descr=""/>
            <p:cNvPicPr/>
            <p:nvPr/>
          </p:nvPicPr>
          <p:blipFill>
            <a:blip r:embed="rId1"/>
            <a:srcRect l="0" t="18251" r="5810" b="40670"/>
            <a:stretch/>
          </p:blipFill>
          <p:spPr>
            <a:xfrm>
              <a:off x="457200" y="1981080"/>
              <a:ext cx="7772400" cy="22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1104840" y="4174920"/>
              <a:ext cx="103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Subject1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60200" y="4174920"/>
              <a:ext cx="103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Subject2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80720" y="4174920"/>
              <a:ext cx="103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Subject3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380880" y="4495680"/>
            <a:ext cx="783612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Voxelwise linear discriminant classifi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Score is average rank of correct label among 12 [red is 75%]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Examples come from same experiment perio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1089-77B0-42A4-B2D4-871E4145916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Classifier analysis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ill Sans MT"/>
              </a:rPr>
              <a:t>Word Categories study</a:t>
            </a:r>
            <a:endParaRPr b="0" lang="en-US" sz="3600" spc="-1" strike="noStrike">
              <a:solidFill>
                <a:srgbClr val="333333"/>
              </a:solidFill>
              <a:latin typeface="Gill Sans MT"/>
            </a:endParaRPr>
          </a:p>
          <a:p>
            <a:pPr marL="308520" indent="-308520"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Gill Sans MT"/>
              </a:rPr>
              <a:t>Building parts,Vegetables,Tools,Trees,Fish,Dwellings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marL="308520" indent="-308520"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Stimuli: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lvl="1" marL="668520" indent="-25704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Two time blocks per category, interleaved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lvl="1" marL="668520" indent="-25704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In each block, subject sees 20 words of that category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e.g.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lvl="2" marL="10285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ill Sans MT"/>
              </a:rPr>
              <a:t>20 vegetables, pause, 20 tools, pause, 20 trees, pause,…,20 tools, etc</a:t>
            </a:r>
            <a:endParaRPr b="0" lang="en-US" sz="2000" spc="-1" strike="noStrike">
              <a:solidFill>
                <a:srgbClr val="333333"/>
              </a:solidFill>
              <a:latin typeface="Gill Sans MT"/>
            </a:endParaRPr>
          </a:p>
          <a:p>
            <a:pPr marL="308520" indent="-308520"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Task: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distinguish images in every pair of categories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FBCF-81E6-403F-9E43-5A9667ACBDF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Classifier analysis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Nearest-neighbour classifier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Using spatial correlation </a:t>
            </a: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between images 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  <a:ea typeface="BatangChe"/>
              </a:rPr>
              <a:t>v</a:t>
            </a:r>
            <a:r>
              <a:rPr b="0" i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 and </a:t>
            </a:r>
            <a:r>
              <a:rPr b="0" i="1" lang="en-US" sz="2800" spc="-1" strike="noStrike">
                <a:solidFill>
                  <a:srgbClr val="333333"/>
                </a:solidFill>
                <a:latin typeface="NewCenturySchlbk"/>
              </a:rPr>
              <a:t>v</a:t>
            </a:r>
            <a:r>
              <a:rPr b="0" i="1" lang="en-US" sz="2800" spc="-1" strike="noStrike" baseline="-25000">
                <a:solidFill>
                  <a:srgbClr val="333333"/>
                </a:solidFill>
                <a:latin typeface="NewCenturySchlbk"/>
              </a:rPr>
              <a:t>2 </a:t>
            </a: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as distance measure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rcRect l="27738" t="26077" r="3650" b="40037"/>
          <a:stretch/>
        </p:blipFill>
        <p:spPr>
          <a:xfrm>
            <a:off x="762120" y="2666880"/>
            <a:ext cx="7162560" cy="9907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685800" y="3809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where mean and variance of image </a:t>
            </a:r>
            <a:r>
              <a:rPr b="0" i="1" lang="en-US" sz="3200" spc="-1" strike="noStrike">
                <a:solidFill>
                  <a:srgbClr val="333333"/>
                </a:solidFill>
                <a:latin typeface="Gill Sans MT"/>
              </a:rPr>
              <a:t>k</a:t>
            </a: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 ar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rcRect l="5769" t="68669" r="73800" b="13092"/>
          <a:stretch/>
        </p:blipFill>
        <p:spPr>
          <a:xfrm>
            <a:off x="1295280" y="4800600"/>
            <a:ext cx="1981440" cy="5335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rcRect l="58425" t="68669" r="12501" b="13092"/>
          <a:stretch/>
        </p:blipFill>
        <p:spPr>
          <a:xfrm>
            <a:off x="4572000" y="4800600"/>
            <a:ext cx="2819520" cy="5335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838080" y="5791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using the most active voxels in the imag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081F-0878-4B53-AF7E-CB517C76ACA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Classifier analysis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Mean pairwise prediction accuracy averaged over 7 subjects, using different brain divisions: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Ventral temporal: 77%  (low: 57%, high 88%)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Parietal: 70%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Frontal: 67%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(Random guess: 50%)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D99E-034E-4270-953B-619F2F99D6C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Classifier analysis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82" name=""/>
          <p:cNvSpPr/>
          <p:nvPr/>
        </p:nvSpPr>
        <p:spPr>
          <a:xfrm>
            <a:off x="91440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ool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46483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welling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9144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resentation 1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553080" y="91440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resentation 2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3352680" y="1371600"/>
            <a:ext cx="5319720" cy="5181480"/>
            <a:chOff x="3352680" y="1371600"/>
            <a:chExt cx="5319720" cy="5181480"/>
          </a:xfrm>
        </p:grpSpPr>
        <p:pic>
          <p:nvPicPr>
            <p:cNvPr id="287" name="" descr=""/>
            <p:cNvPicPr/>
            <p:nvPr/>
          </p:nvPicPr>
          <p:blipFill>
            <a:blip r:embed="rId1"/>
            <a:srcRect l="4687" t="37269" r="9374" b="6251"/>
            <a:stretch/>
          </p:blipFill>
          <p:spPr>
            <a:xfrm>
              <a:off x="3352680" y="1371600"/>
              <a:ext cx="5319720" cy="51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19050600">
              <a:off x="3849840" y="2969280"/>
              <a:ext cx="853200" cy="4212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9050600">
              <a:off x="3849840" y="5709600"/>
              <a:ext cx="853200" cy="4212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19050600">
              <a:off x="6836400" y="5709600"/>
              <a:ext cx="853200" cy="4212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19050600">
              <a:off x="6765480" y="3039840"/>
              <a:ext cx="853200" cy="4212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33520" y="4264200"/>
            <a:ext cx="22096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33"/>
                </a:solidFill>
                <a:latin typeface="Arial"/>
              </a:rPr>
              <a:t>one horizontal slice, from one subject, ventral temporal cortex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33"/>
                </a:solidFill>
                <a:latin typeface="Arial"/>
              </a:rPr>
              <a:t>[Pereira, et al 2004]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520" y="2057400"/>
            <a:ext cx="1828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ean classification accuracy .95 (tools vs dwellings,     8 subjects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F1F4-E337-441E-969C-3BB6BEC18A2F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Introduction to fMRI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MRI - magnetic resonance imaging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A 3D grid of volume elements (</a:t>
            </a:r>
            <a:r>
              <a:rPr b="0" i="1" lang="en-US" sz="2800" spc="-1" strike="noStrike">
                <a:solidFill>
                  <a:srgbClr val="333333"/>
                </a:solidFill>
                <a:latin typeface="Gill Sans MT"/>
              </a:rPr>
              <a:t>voxels</a:t>
            </a: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Typical volumes have O(10K) to O(100K) voxels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How does time come into the picture?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981080" y="3352680"/>
          <a:ext cx="3971880" cy="29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352680"/>
                    <a:ext cx="3971880" cy="29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-209520" y="6388200"/>
            <a:ext cx="63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Gill Sans MT"/>
              </a:rPr>
              <a:t>Introduction to fMRI</a:t>
            </a: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 &gt; Classifiers on fMRI &gt; Data decomposition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EE5D-88DD-4639-A4A4-9E19CEE0D4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Classifier analysis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Do different people’s brains ‘encode’ semantic categories using the same spatial patterns?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No, the patterns are very different across subjects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However,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here are cross-subject regularities in “distances” between categories, as measured by classifier error rates.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2063-C761-4602-B720-6789E36B5E2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Classifier analysis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28600" y="1066680"/>
          <a:ext cx="8229600" cy="4876920"/>
        </p:xfrm>
        <a:graphic>
          <a:graphicData uri="http://schemas.openxmlformats.org/drawingml/2006/table">
            <a:tbl>
              <a:tblPr/>
              <a:tblGrid>
                <a:gridCol w="1028520"/>
                <a:gridCol w="959400"/>
                <a:gridCol w="1440720"/>
                <a:gridCol w="1165680"/>
                <a:gridCol w="1234440"/>
                <a:gridCol w="1098000"/>
                <a:gridCol w="13028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Fish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Vegetables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Tools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Dwellings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Trees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Bldg Parts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Subj1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20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55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Gill Sans MT"/>
                        </a:rPr>
                        <a:t>*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20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1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1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05 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Gill Sans MT"/>
                        </a:rPr>
                        <a:t>*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Sub2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10 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Gill Sans MT"/>
                        </a:rPr>
                        <a:t>*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55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Gill Sans MT"/>
                        </a:rPr>
                        <a:t>*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3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20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10 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Gill Sans MT"/>
                        </a:rPr>
                        <a:t>*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30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Sub3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20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35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Gill Sans MT"/>
                        </a:rPr>
                        <a:t>*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15 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Gill Sans MT"/>
                        </a:rPr>
                        <a:t>*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20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20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20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Sub4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15 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45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Gill Sans MT"/>
                        </a:rPr>
                        <a:t>*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15 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1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2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05 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Gill Sans MT"/>
                        </a:rPr>
                        <a:t>*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Sub5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60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Gill Sans MT"/>
                        </a:rPr>
                        <a:t>*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5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2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20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15 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Gill Sans MT"/>
                        </a:rPr>
                        <a:t>*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15 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Gill Sans MT"/>
                        </a:rPr>
                        <a:t>*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Sub6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20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2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00 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Gill Sans MT"/>
                        </a:rPr>
                        <a:t>*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30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Gill Sans MT"/>
                        </a:rPr>
                        <a:t>*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30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Gill Sans MT"/>
                        </a:rPr>
                        <a:t>*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0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Sub7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1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55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Gill Sans MT"/>
                        </a:rPr>
                        <a:t>*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1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2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1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05 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Gill Sans MT"/>
                        </a:rPr>
                        <a:t>*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Mean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23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46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18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2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19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.12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"/>
          <p:cNvSpPr/>
          <p:nvPr/>
        </p:nvSpPr>
        <p:spPr>
          <a:xfrm>
            <a:off x="1752480" y="1447920"/>
            <a:ext cx="1600200" cy="47242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57800" y="6172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* Worst 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* Bes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17F4-AFE5-41BC-BDFF-8CE60306913D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Classifier analysis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So, what do do with this?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2A1F-E10B-45E2-B04E-18867FD0371E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Classifier analysis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2C30-BC25-4DA2-B7F1-5DD79B85305E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A brief introduction to fMRI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63309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ill Sans MT"/>
              </a:rPr>
              <a:t>MRI - magnetic resonance imaging</a:t>
            </a:r>
            <a:endParaRPr b="0" lang="en-US" sz="3600" spc="-1" strike="noStrike">
              <a:solidFill>
                <a:srgbClr val="333333"/>
              </a:solidFill>
              <a:latin typeface="Gill Sans MT"/>
            </a:endParaRPr>
          </a:p>
          <a:p>
            <a:pPr marL="315360" indent="-315360"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The subject is placed inside a strong homogeneous magnetic field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15360" indent="-315360"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The protons in the nuclei of hydrogen atoms align themselves with this field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15360" indent="-315360"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They precess around the axis of the field, but not in phase with each other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15360" indent="-315360"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RF pulses cause them to precess in 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1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phase, lost slowly after each pulse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15360" indent="-315360"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Black magic with pulses gives us…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6208560" y="1828800"/>
          <a:ext cx="293544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8560" y="1828800"/>
                    <a:ext cx="29354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4EAE-2331-4DE0-BF40-1DD6E8E794B2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A brief introduction to fMRI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Functional MRI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B</a:t>
            </a: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(lood)</a:t>
            </a:r>
            <a:r>
              <a:rPr b="0" lang="en-US" sz="2800" spc="-1" strike="noStrike">
                <a:solidFill>
                  <a:srgbClr val="eaeaea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O</a:t>
            </a: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(xygen)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L</a:t>
            </a: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(evel)</a:t>
            </a:r>
            <a:r>
              <a:rPr b="0" lang="en-US" sz="2800" spc="-1" strike="noStrike">
                <a:solidFill>
                  <a:srgbClr val="eaeaea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D</a:t>
            </a: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(ependent)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Deoxyhaemoglobin perturbs the MRI signal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Cycle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1) Oxygen consumed, more deoxyhaemoglobin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2) Increased blood flow, more oxyhaemoglobin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3) Back to baseline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All changes are with respect to a baseline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C5AA-7CE4-44B3-AD0D-182852A45AA6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Data Decompositions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pic>
        <p:nvPicPr>
          <p:cNvPr id="311" name="imagesToExamples_prev" descr=""/>
          <p:cNvPicPr/>
          <p:nvPr/>
        </p:nvPicPr>
        <p:blipFill>
          <a:blip r:embed="rId1"/>
          <a:stretch/>
        </p:blipFill>
        <p:spPr>
          <a:xfrm>
            <a:off x="914400" y="1308240"/>
            <a:ext cx="6019920" cy="947520"/>
          </a:xfrm>
          <a:prstGeom prst="rect">
            <a:avLst/>
          </a:prstGeom>
          <a:ln w="0">
            <a:noFill/>
          </a:ln>
        </p:spPr>
      </p:pic>
      <p:pic>
        <p:nvPicPr>
          <p:cNvPr id="312" name="decompositionExample_prev" descr=""/>
          <p:cNvPicPr/>
          <p:nvPr/>
        </p:nvPicPr>
        <p:blipFill>
          <a:blip r:embed="rId2"/>
          <a:stretch/>
        </p:blipFill>
        <p:spPr>
          <a:xfrm>
            <a:off x="380880" y="3809880"/>
            <a:ext cx="8086680" cy="2524320"/>
          </a:xfrm>
          <a:prstGeom prst="rect">
            <a:avLst/>
          </a:prstGeom>
          <a:ln w="0">
            <a:noFill/>
          </a:ln>
        </p:spPr>
      </p:pic>
      <p:pic>
        <p:nvPicPr>
          <p:cNvPr id="313" name="decompositionExampleSimple_prev" descr=""/>
          <p:cNvPicPr/>
          <p:nvPr/>
        </p:nvPicPr>
        <p:blipFill>
          <a:blip r:embed="rId3"/>
          <a:stretch/>
        </p:blipFill>
        <p:spPr>
          <a:xfrm>
            <a:off x="1600200" y="2590920"/>
            <a:ext cx="5638680" cy="109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C4A9-3895-4132-9477-9A7918B7D531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Introduction to fMRI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6108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The goal of this thesis is to develop descriptions of the data that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Are related to any kind of variable of interest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(e.g.)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67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Are expressed in terms entities other than clusters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lvl="1" marL="67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The goal is to go BOLDly where no one has gone before, to go BEYOND THE BLOB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FC9F-8BC5-49C5-BB5D-CA742A921AB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rcRect l="42432" t="32293" r="18034" b="38544"/>
          <a:stretch/>
        </p:blipFill>
        <p:spPr>
          <a:xfrm>
            <a:off x="5334120" y="4343400"/>
            <a:ext cx="3581280" cy="2133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730A-DB66-4DFF-A726-D470D16443FB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Introduction to fMRI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Gill Sans MT"/>
              </a:rPr>
              <a:t>Functional</a:t>
            </a: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 MRI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Neuronal activity requires oxygen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The vascular system responds to increased activity by sending more oxygen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ill Sans MT"/>
              </a:rPr>
              <a:t>The increase in oxygen is visible in the MRI signal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4267080"/>
          <a:ext cx="8077320" cy="18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67080"/>
                    <a:ext cx="8077320" cy="18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-209520" y="6388200"/>
            <a:ext cx="63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Gill Sans MT"/>
              </a:rPr>
              <a:t>Introduction to fMRI</a:t>
            </a: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 &gt; Classifiers on fMRI &gt; Data decomposition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61B4-B128-49E9-A6CE-5CE88404B8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Introduction to fMRI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458200" cy="25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Gill Sans MT"/>
              </a:rPr>
              <a:t>Functional</a:t>
            </a: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 MRI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marL="178200" indent="-178200">
              <a:lnSpc>
                <a:spcPct val="90000"/>
              </a:lnSpc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Voxel in the visual cortex, after the subject underwent visual stimulation for 1 sec (average of several trials)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178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178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178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178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178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178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178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178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178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178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178200" indent="-178200">
              <a:lnSpc>
                <a:spcPct val="90000"/>
              </a:lnSpc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Response to one event lasts several seconds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marL="178200" indent="-178200">
              <a:lnSpc>
                <a:spcPct val="90000"/>
              </a:lnSpc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The responses to successive events will convolve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52480" y="2286000"/>
          <a:ext cx="4496040" cy="275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86000"/>
                    <a:ext cx="4496040" cy="27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-209520" y="6388200"/>
            <a:ext cx="63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Gill Sans MT"/>
              </a:rPr>
              <a:t>Introduction to fMRI</a:t>
            </a: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 &gt; Classifiers on fMRI &gt; Data decomposition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EE5A-EDB4-4DB9-9071-D5FBEB327B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Gill Sans MT"/>
              </a:rPr>
              <a:t>Introduction to fMRI</a:t>
            </a:r>
            <a:endParaRPr b="0" lang="en-US" sz="4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9" name=""/>
          <p:cNvSpPr/>
          <p:nvPr/>
        </p:nvSpPr>
        <p:spPr>
          <a:xfrm>
            <a:off x="1298880" y="3124080"/>
            <a:ext cx="61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So, what does it </a:t>
            </a:r>
            <a:r>
              <a:rPr b="0" i="1" lang="en-US" sz="3200" spc="-1" strike="noStrike">
                <a:solidFill>
                  <a:srgbClr val="333333"/>
                </a:solidFill>
                <a:latin typeface="Gill Sans MT"/>
              </a:rPr>
              <a:t>really</a:t>
            </a: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 look lik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209520" y="6388200"/>
            <a:ext cx="63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Gill Sans MT"/>
              </a:rPr>
              <a:t>Introduction to fMRI</a:t>
            </a:r>
            <a:r>
              <a:rPr b="0" lang="en-US" sz="1600" spc="-1" strike="noStrike">
                <a:solidFill>
                  <a:srgbClr val="333333"/>
                </a:solidFill>
                <a:latin typeface="Gill Sans MT"/>
              </a:rPr>
              <a:t> &gt; Classifiers on fMRI &gt; Data decomposition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968D-E15B-46F1-AF86-7779A96A6E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03:55:18Z</dcterms:created>
  <dc:creator>X</dc:creator>
  <dc:description/>
  <dc:language>en-US</dc:language>
  <cp:lastModifiedBy>X</cp:lastModifiedBy>
  <dcterms:modified xsi:type="dcterms:W3CDTF">2005-03-02T05:59:12Z</dcterms:modified>
  <cp:revision>542</cp:revision>
  <dc:subject/>
  <dc:title>PowerPoint Presentation</dc:title>
</cp:coreProperties>
</file>